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AF19B-528B-44F2-B5A6-833ECC0B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57585-EF69-4030-9C88-5998D8DA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B3D9C-B809-49F2-89E5-E6F39AF8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1FEE3-9D53-4AE4-8F96-3FDDF961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466BCC-51EF-47EE-B4AC-BF3A3FCBF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B086F-92EC-4066-9098-2D89E9B6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C3A2C-4FCA-485A-90D2-B6DA0B4BA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A9D7D-FBC7-4D7A-97A8-BDE7EE40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6B47A-EACC-48B9-81BF-7D1A5F2C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8C34E-B163-475B-A021-38C824EE3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3D248-AB24-4919-90D9-3FD5BE77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0A46-53A3-40E8-8D49-5EE77D63D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DB95-838A-4725-862E-779BC543B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7364-BF8C-4C9C-9309-05CB967A8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2CF3-1921-47AF-B604-F284FDB74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F262-430E-4DDD-80A5-1CBFD28DAE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3894-3DB6-4A6E-8AF1-940D6419E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BAF3-E56D-4512-8247-BD3DFEA33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F7AA-36CD-4333-B83D-81F800DFA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6086-9F85-46A3-91CE-BA9FB27EE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5783-46E6-4E3A-8187-6C6E49462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2945-4223-4DF5-B20F-180A67FFB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9B5F-EFAF-49A4-A37C-A94E6A587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A7226-22D1-4EC2-8AB4-023A7B2B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3.jpeg"/><Relationship Id="rId8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14400" y="2286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24382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65760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152280" y="6248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ia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666880" y="38862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am really sorry about getting in the fight. I hope nothing will happen and we stay together. I love you (=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666880" y="4495680"/>
            <a:ext cx="4496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liet, don’t worry about your father. He does love you and he is glad you are his daughter. He just has a lot to take in at one time. I am very proud of you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666880" y="51814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am going out with my friend Mercutio today. I will try my hardest not to get in any fights. I love you Juliet (=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666880" y="25146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a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have a great idea for this problem that you are in.  Just contact me when you ca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666880" y="32004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a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ow! This so awkward. Paris is in here making wedding plans!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666880" y="5867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look very beautiful tonight. When I talked to you for those couple of minutes, I felt like my heart was melting.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873080"/>
          <a:ext cx="1602000" cy="533520"/>
        </p:xfrm>
        <a:graphic>
          <a:graphicData uri="http://schemas.openxmlformats.org/drawingml/2006/table">
            <a:tbl>
              <a:tblPr/>
              <a:tblGrid>
                <a:gridCol w="1602000"/>
              </a:tblGrid>
              <a:tr h="53352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frown, you never know who is falling in love with your smile.”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62" descr="http://t3.gstatic.com/images?q=tbn:m3OTXHw5YGcVcM:http://www.pastemagazine.com/articles/carrie-underwood-vegan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457200"/>
            <a:ext cx="1218960" cy="12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2" name="Picture 53" descr="imagesCAHJIQYL.jpg"/>
          <p:cNvPicPr/>
          <p:nvPr/>
        </p:nvPicPr>
        <p:blipFill>
          <a:blip r:embed="rId7"/>
          <a:stretch/>
        </p:blipFill>
        <p:spPr>
          <a:xfrm>
            <a:off x="152280" y="5410080"/>
            <a:ext cx="495360" cy="73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Ashley tisdale.jpg"/>
          <p:cNvPicPr/>
          <p:nvPr/>
        </p:nvPicPr>
        <p:blipFill>
          <a:blip r:embed="rId8"/>
          <a:stretch/>
        </p:blipFill>
        <p:spPr>
          <a:xfrm>
            <a:off x="685800" y="548640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5" descr="channging tatum.jpg"/>
          <p:cNvPicPr/>
          <p:nvPr/>
        </p:nvPicPr>
        <p:blipFill>
          <a:blip r:embed="rId9"/>
          <a:stretch/>
        </p:blipFill>
        <p:spPr>
          <a:xfrm>
            <a:off x="1219320" y="5410080"/>
            <a:ext cx="590400" cy="79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imagesCAHJIQYL.jpg"/>
          <p:cNvPicPr/>
          <p:nvPr/>
        </p:nvPicPr>
        <p:blipFill>
          <a:blip r:embed="rId10"/>
          <a:stretch/>
        </p:blipFill>
        <p:spPr>
          <a:xfrm>
            <a:off x="2133720" y="5105520"/>
            <a:ext cx="41112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3" descr="imagesCAHJIQYL.jpg"/>
          <p:cNvPicPr/>
          <p:nvPr/>
        </p:nvPicPr>
        <p:blipFill>
          <a:blip r:embed="rId11"/>
          <a:stretch/>
        </p:blipFill>
        <p:spPr>
          <a:xfrm>
            <a:off x="2133720" y="3733920"/>
            <a:ext cx="457200" cy="67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4" descr="Ashley tisdale.jpg"/>
          <p:cNvPicPr/>
          <p:nvPr/>
        </p:nvPicPr>
        <p:blipFill>
          <a:blip r:embed="rId12"/>
          <a:stretch/>
        </p:blipFill>
        <p:spPr>
          <a:xfrm>
            <a:off x="2133720" y="4495680"/>
            <a:ext cx="40320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5" descr="channging tatum.jpg"/>
          <p:cNvPicPr/>
          <p:nvPr/>
        </p:nvPicPr>
        <p:blipFill>
          <a:blip r:embed="rId13"/>
          <a:stretch/>
        </p:blipFill>
        <p:spPr>
          <a:xfrm>
            <a:off x="2133720" y="2438280"/>
            <a:ext cx="4824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6" descr="channging tatum.jpg"/>
          <p:cNvPicPr/>
          <p:nvPr/>
        </p:nvPicPr>
        <p:blipFill>
          <a:blip r:embed="rId14"/>
          <a:stretch/>
        </p:blipFill>
        <p:spPr>
          <a:xfrm>
            <a:off x="2209680" y="3048120"/>
            <a:ext cx="362160" cy="48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" descr="imagesCAHJIQYL.jpg"/>
          <p:cNvPicPr/>
          <p:nvPr/>
        </p:nvPicPr>
        <p:blipFill>
          <a:blip r:embed="rId15"/>
          <a:stretch/>
        </p:blipFill>
        <p:spPr>
          <a:xfrm>
            <a:off x="2133720" y="5791320"/>
            <a:ext cx="45720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581280"/>
            <a:ext cx="1600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209680" y="3276720"/>
            <a:ext cx="441972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lking to friends and family, reading and writing, and going to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ll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Walking, spending time with family, and reading book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ylor Swift, Carrie Underwood, and Kelli Pickl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Last Song, Letters to Juliet, and Happy Ever Af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 time, The Hills, and American Ido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last song, Love hurts, and Family Ti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838080" y="533412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Good times (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hursday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 and Friend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309)-312-44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905120"/>
          <a:ext cx="1525680" cy="554040"/>
        </p:xfrm>
        <a:graphic>
          <a:graphicData uri="http://schemas.openxmlformats.org/drawingml/2006/table">
            <a:tbl>
              <a:tblPr/>
              <a:tblGrid>
                <a:gridCol w="1525680"/>
              </a:tblGrid>
              <a:tr h="5540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 will always find it’s way even if it means waiting.”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50" descr="http://t3.gstatic.com/images?q=tbn:m3OTXHw5YGcVcM:http://www.pastemagazine.com/articles/carrie-underwood-vegan0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57200"/>
            <a:ext cx="1084320" cy="12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1" name="Picture 43" descr="carrie underwood pic.jpg"/>
          <p:cNvPicPr/>
          <p:nvPr/>
        </p:nvPicPr>
        <p:blipFill>
          <a:blip r:embed="rId9"/>
          <a:stretch/>
        </p:blipFill>
        <p:spPr>
          <a:xfrm>
            <a:off x="152280" y="5334120"/>
            <a:ext cx="709560" cy="51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imagesCAEVNF08.jpg"/>
          <p:cNvPicPr/>
          <p:nvPr/>
        </p:nvPicPr>
        <p:blipFill>
          <a:blip r:embed="rId10"/>
          <a:stretch/>
        </p:blipFill>
        <p:spPr>
          <a:xfrm>
            <a:off x="0" y="5911920"/>
            <a:ext cx="73332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85800" y="1523880"/>
            <a:ext cx="586728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with Nurs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y dad and I got in a little argu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It was pretty intense, so I had to turn to someone so my Nurse was there for me.  Here is the messages between u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Everything is ok, don’t take this fight pers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that would be hard to do, everything he said was hard to take 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he still loves you Juli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um.. Idk about that now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He does.. Just he is taking in so much right now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I gues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Think of it this way, his little girl is finally growing up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3520" y="4114800"/>
            <a:ext cx="56386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Me, Juli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. I am Juliet. I am a Capulet. I love to do many different things. I love reading and romantic settings. I met this amazing guy named Romeo. I love him but I can’t be with him because he is a Montague. We met at this party and we only talked for a couple of minutes and we fell in love. I know its crazy. But its all true. But my dad and mother planned a wedding with Paris. But he only likes me for the money. It  is going to an adventure for 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520" y="1523880"/>
            <a:ext cx="6400800" cy="236232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3520" y="4038480"/>
            <a:ext cx="6400800" cy="221004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0" descr="http://t3.gstatic.com/images?q=tbn:m3OTXHw5YGcVcM:http://www.pastemagazine.com/articles/carrie-underwood-vegan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8520" y="450720"/>
            <a:ext cx="663480" cy="14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1371600" y="205740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sor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t believe that this is the tur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>
            <a:hlinkClick r:id="rId4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>
            <a:hlinkClick r:id="rId5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1447920" y="350532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Beautiful gir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you are a strong girl but you ne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He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I  just sent you a e-mail just to say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0" descr="http://t3.gstatic.com/images?q=tbn:m3OTXHw5YGcVcM:http://www.pastemagazine.com/articles/carrie-underwood-vegan0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8520" y="512640"/>
            <a:ext cx="889200" cy="1901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6"/>
          <p:cNvSpPr/>
          <p:nvPr/>
        </p:nvSpPr>
        <p:spPr>
          <a:xfrm>
            <a:off x="1295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x(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4" descr="imagesCAHJIQYL.jpg"/>
          <p:cNvPicPr/>
          <p:nvPr/>
        </p:nvPicPr>
        <p:blipFill>
          <a:blip r:embed="rId10"/>
          <a:stretch/>
        </p:blipFill>
        <p:spPr>
          <a:xfrm>
            <a:off x="304920" y="5105520"/>
            <a:ext cx="1204920" cy="131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5" descr="imagesCAHJIQYL.jpg"/>
          <p:cNvPicPr/>
          <p:nvPr/>
        </p:nvPicPr>
        <p:blipFill>
          <a:blip r:embed="rId11"/>
          <a:stretch/>
        </p:blipFill>
        <p:spPr>
          <a:xfrm>
            <a:off x="152280" y="1828800"/>
            <a:ext cx="1204920" cy="131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Ashley tisdale.jpg"/>
          <p:cNvPicPr/>
          <p:nvPr/>
        </p:nvPicPr>
        <p:blipFill>
          <a:blip r:embed="rId12"/>
          <a:stretch/>
        </p:blipFill>
        <p:spPr>
          <a:xfrm>
            <a:off x="228600" y="3429000"/>
            <a:ext cx="10666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TextBox 24" descr=""/>
          <p:cNvPicPr/>
          <p:nvPr/>
        </p:nvPicPr>
        <p:blipFill>
          <a:blip r:embed="rId5"/>
          <a:stretch/>
        </p:blipFill>
        <p:spPr>
          <a:xfrm>
            <a:off x="1500120" y="2266920"/>
            <a:ext cx="6443640" cy="1603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0" descr="http://t3.gstatic.com/images?q=tbn:m3OTXHw5YGcVcM:http://www.pastemagazine.com/articles/carrie-underwood-vegan07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8520" y="530280"/>
            <a:ext cx="736560" cy="156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imagesCAHJIQYL.jpg"/>
          <p:cNvPicPr/>
          <p:nvPr/>
        </p:nvPicPr>
        <p:blipFill>
          <a:blip r:embed="rId8"/>
          <a:stretch/>
        </p:blipFill>
        <p:spPr>
          <a:xfrm>
            <a:off x="228600" y="2286000"/>
            <a:ext cx="119376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(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>
            <a:hlinkClick r:id="rId3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1600200" y="198108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autiful Gi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you are a strong girl but you need figure out what you need to do. Your dad loves you and you know that.  You just met Romeo, just watch out with happens. I will always be here for you but don’t dig yourself a deeper hol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1676520" y="388620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autiful gi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what I am capable of, but when he yells at me and says the things that he did, hurts. But  I will watch out for what I do or say. I love him to. Romeo is amazing  guy and everyone needs to realize it. Thanks I am glad to have yo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0" descr="http://t3.gstatic.com/images?q=tbn:m3OTXHw5YGcVcM:http://www.pastemagazine.com/articles/carrie-underwood-vegan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8520" y="530280"/>
            <a:ext cx="736560" cy="1560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Ashley tisdale.jpg"/>
          <p:cNvPicPr/>
          <p:nvPr/>
        </p:nvPicPr>
        <p:blipFill>
          <a:blip r:embed="rId7"/>
          <a:stretch/>
        </p:blipFill>
        <p:spPr>
          <a:xfrm>
            <a:off x="152280" y="1828800"/>
            <a:ext cx="1219320" cy="1490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0" descr="http://t3.gstatic.com/images?q=tbn:m3OTXHw5YGcVcM:http://www.pastemagazine.com/articles/carrie-underwood-vegan0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3809880"/>
            <a:ext cx="129564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(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>
            <a:hlinkClick r:id="rId4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>
            <a:hlinkClick r:id="rId5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24"/>
          <p:cNvSpPr/>
          <p:nvPr/>
        </p:nvSpPr>
        <p:spPr>
          <a:xfrm>
            <a:off x="1676520" y="20574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lo, I  just sent you a e-mail just to say that the party was so fun. You were the most beautiful woman there. I was really depressed until I saw you. I know I am a Montague and you are a Capulet but I believe our love will find it’s way. I will do anything to be with you Juliet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1676520" y="4495680"/>
            <a:ext cx="6400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. (: I had a very good time at the dance as well. Yes indeed it was a very sort time that we talked. But I did fall in love with you in that period of time. Hopefully us liking each other will stop our parents from fighting.. Lets hope anyway. Ha-ha!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0" descr="http://t3.gstatic.com/images?q=tbn:m3OTXHw5YGcVcM:http://www.pastemagazine.com/articles/carrie-underwood-vegan07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5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imagesCAHJIQYL.jpg"/>
          <p:cNvPicPr/>
          <p:nvPr/>
        </p:nvPicPr>
        <p:blipFill>
          <a:blip r:embed="rId8"/>
          <a:stretch/>
        </p:blipFill>
        <p:spPr>
          <a:xfrm>
            <a:off x="304920" y="1676520"/>
            <a:ext cx="121896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0" descr="http://t3.gstatic.com/images?q=tbn:m3OTXHw5YGcVcM:http://www.pastemagazine.com/articles/carrie-underwood-vegan07.jpg"/>
          <p:cNvPicPr/>
          <p:nvPr/>
        </p:nvPicPr>
        <p:blipFill>
          <a:blip r:embed="rId9"/>
          <a:stretch/>
        </p:blipFill>
        <p:spPr>
          <a:xfrm>
            <a:off x="228600" y="4419720"/>
            <a:ext cx="12952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 </cp:lastModifiedBy>
  <dcterms:modified xsi:type="dcterms:W3CDTF">2010-05-17T02:55:45Z</dcterms:modified>
  <cp:revision>78</cp:revision>
  <dc:subject/>
  <dc:title>Profile</dc:title>
</cp:coreProperties>
</file>